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971-0B6E-4114-9C3F-0F222183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D3E-1448-46D6-BB74-50FE6FE9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EB3-F4C2-411B-8D6B-8D52371C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B8A-11B9-449B-8D7F-0795E0CC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2E899-9546-48AD-86F3-7782E037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234CF-9D9B-4061-8C2C-BCC5FC3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9852F-C869-4001-92B1-4548234B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90B4A-E4BF-48AF-98E8-99790F28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B3381-DF6A-4A06-BFF8-F5FEB5A3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E2501-7B93-4E78-8028-A8D1951C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887E1-F290-498F-A2FE-CD5792E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70D-8B20-4C4E-8B58-1AA69454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10869-C81F-4CF4-828D-32CA765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BBA1A-14ED-4B39-8BE4-99274875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DD26E-7A20-4B52-AD45-FA2B3154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7DFCF-3D2B-49AA-A135-2039C270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C039A-4D06-4578-A75C-01D8B4AD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919-32A8-4C5F-8361-9BA29F66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9BE-8B9C-4FF7-87CA-7ACDAA2F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6CB-B972-4FB8-BAD9-D412D203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E2A-2DC1-406F-846A-FDF2793F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6DA-A641-466F-A046-6E1F8C49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7B5-0E90-4187-982D-397EFA1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3E4-DA53-4A89-BE37-990E0EED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8260-FF2E-484F-BA44-2482C6C092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1B31-18E1-496E-B9FC-06D9A6E014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ема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УЩНОСТЬ И ОБЩАЯ КЛАССИФИКАЦИЯ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общих социальных отношен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обитания людей всех поко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ловие жизн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осполняемый природный ресу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нный базис размещения других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ается на благо все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свободы и независимост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ижность вла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гордости и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функциональное 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формирования среднего слоя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омпоненты недвижимости в зарубежной практике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523880"/>
            <a:ext cx="6934320" cy="4191120"/>
          </a:xfrm>
          <a:custGeom>
            <a:avLst/>
            <a:gdLst>
              <a:gd name="textAreaLeft" fmla="*/ 1524960 w 6934320"/>
              <a:gd name="textAreaRight" fmla="*/ 5409360 w 6934320"/>
              <a:gd name="textAreaTop" fmla="*/ 921600 h 4191120"/>
              <a:gd name="textAreaBottom" fmla="*/ 3269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523880"/>
            <a:ext cx="160020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866920" y="1523880"/>
            <a:ext cx="175284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1905120"/>
            <a:ext cx="5638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051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2860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43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029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486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743200"/>
            <a:ext cx="4952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124080"/>
            <a:ext cx="472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09880" y="2743200"/>
            <a:ext cx="990720" cy="3048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819520"/>
            <a:ext cx="914400" cy="2895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1240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3716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плекс прав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6480" y="17938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душное                  простран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362320"/>
            <a:ext cx="44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ения                     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3760" y="27432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ельные                  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6200" y="312408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ра                    не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657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6576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00760" y="4765680"/>
            <a:ext cx="9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4173600">
            <a:off x="1217880" y="3275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784200">
            <a:off x="6309720" y="3213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признаки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1371600"/>
            <a:ext cx="7771320" cy="3885120"/>
            <a:chOff x="762120" y="1371600"/>
            <a:chExt cx="7771320" cy="3885120"/>
          </a:xfrm>
        </p:grpSpPr>
        <p:cxnSp>
          <p:nvCxnSpPr>
            <p:cNvPr id="192" name="_s43019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305680" y="2268000"/>
              <a:ext cx="777600" cy="209196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43018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212640" y="2267280"/>
              <a:ext cx="777600" cy="209340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43014"/>
            <p:cNvSpPr/>
            <p:nvPr/>
          </p:nvSpPr>
          <p:spPr>
            <a:xfrm>
              <a:off x="2854800" y="1371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Признаки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43015"/>
            <p:cNvSpPr/>
            <p:nvPr/>
          </p:nvSpPr>
          <p:spPr>
            <a:xfrm>
              <a:off x="76212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Сущностные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(родов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3016"/>
            <p:cNvSpPr/>
            <p:nvPr/>
          </p:nvSpPr>
          <p:spPr>
            <a:xfrm>
              <a:off x="494676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Видовые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(частн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Сущностные (родовые признаки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Связь с землё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Форма функционир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Состояние потребительской формы в процессе использ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Длительность кругооборота (долговечность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Общественное знач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солютная недвижимость, неперемещаемость в пространстве без ущерба функциональному назна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вязь с землё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ная физическая и юри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орма функцион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турально-вещественная и стоимост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остояние потребительской формы в процессе исполь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потребляется, сохраняется натуральная форма в течении всего срока эксплуа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лительность кругооборота (долговечност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кратное использование, а земли – бесконечно при правильном использ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епенно по мере износа и накопления амортизационных отчис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мыкин, Бугулов. Экономика недвижимости. – М.: Филин,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недвижимости/ Под ред. Грязновой Г.А. – М.: Финансы и статистика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саул Экономика недвижимости. – М.: Филин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щественное 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зование объектом часто затрагивает интересы многих граждан и других собственников, интересы которых защищаются государ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идовые (частные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 (местоположение, функциональное назначение, состояние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ются конкретными частными показателями в зависимости от вида недвижимости и целесообразности распространения особого режима использования на другое имущество. Неразрывное единство с функциональным назнач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нятие о классификации недвижимого имущества (вещей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213" name="_s5838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561640" y="240660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6" name="_s58381"/>
            <p:cNvCxnSpPr>
              <a:stCxn id="217" idx="0"/>
              <a:endCxn id="215" idx="2"/>
            </p:cNvCxnSpPr>
            <p:nvPr/>
          </p:nvCxnSpPr>
          <p:spPr>
            <a:xfrm flipV="1">
              <a:off x="4571280" y="33973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58380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681640" y="240696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5" name="_s5837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общая, частная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5837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5837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Призна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5837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ания и соору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ельные уча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а и многолетние наса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ные о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ри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равненные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ущественные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ые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Призна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ункциональны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констру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ичество ком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об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ые призн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600200"/>
            <a:ext cx="8228520" cy="4494600"/>
            <a:chOff x="457200" y="1600200"/>
            <a:chExt cx="8228520" cy="4494600"/>
          </a:xfrm>
        </p:grpSpPr>
        <p:cxnSp>
          <p:nvCxnSpPr>
            <p:cNvPr id="226" name="_s62477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229360" y="2739240"/>
              <a:ext cx="899640" cy="221544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62476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013560" y="2739240"/>
              <a:ext cx="899640" cy="22161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8" name="_s62472"/>
            <p:cNvSpPr/>
            <p:nvPr/>
          </p:nvSpPr>
          <p:spPr>
            <a:xfrm>
              <a:off x="2673000" y="16002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62473"/>
            <p:cNvSpPr/>
            <p:nvPr/>
          </p:nvSpPr>
          <p:spPr>
            <a:xfrm>
              <a:off x="45720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иерархически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62474"/>
            <p:cNvSpPr/>
            <p:nvPr/>
          </p:nvSpPr>
          <p:spPr>
            <a:xfrm>
              <a:off x="488808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фасетны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imes New Roman"/>
              </a:rPr>
              <a:t>Общая классификация объектов недвижимости фасетным методом по различным признака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зна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схождение (воспроизводимость в натуральной форм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пень готовности к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а соб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аслевая принадле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ожность приват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685800"/>
            <a:ext cx="7162200" cy="4799160"/>
            <a:chOff x="1143000" y="685800"/>
            <a:chExt cx="7162200" cy="4799160"/>
          </a:xfrm>
        </p:grpSpPr>
        <p:cxnSp>
          <p:nvCxnSpPr>
            <p:cNvPr id="234" name="_s67616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208120" y="2120760"/>
              <a:ext cx="960480" cy="192852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67615"/>
            <p:cNvCxnSpPr>
              <a:stCxn id="238" idx="0"/>
              <a:endCxn id="236" idx="2"/>
            </p:cNvCxnSpPr>
            <p:nvPr/>
          </p:nvCxnSpPr>
          <p:spPr>
            <a:xfrm flipH="1" flipV="1" rot="5400000">
              <a:off x="3279600" y="2120400"/>
              <a:ext cx="960480" cy="192924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6" name="_s67611"/>
            <p:cNvSpPr/>
            <p:nvPr/>
          </p:nvSpPr>
          <p:spPr>
            <a:xfrm>
              <a:off x="3071520" y="68580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ункционально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назнач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67612"/>
            <p:cNvSpPr/>
            <p:nvPr/>
          </p:nvSpPr>
          <p:spPr>
            <a:xfrm>
              <a:off x="114300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67613"/>
            <p:cNvSpPr/>
            <p:nvPr/>
          </p:nvSpPr>
          <p:spPr>
            <a:xfrm>
              <a:off x="499968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Понятия и признаки недвижимост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143000" y="762120"/>
            <a:ext cx="7009200" cy="5331960"/>
            <a:chOff x="1143000" y="762120"/>
            <a:chExt cx="7009200" cy="5331960"/>
          </a:xfrm>
        </p:grpSpPr>
        <p:cxnSp>
          <p:nvCxnSpPr>
            <p:cNvPr id="240" name="_s70667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058000" y="2484000"/>
              <a:ext cx="1067040" cy="188748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70666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170520" y="2483640"/>
              <a:ext cx="1067040" cy="188820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2" name="_s70662"/>
            <p:cNvSpPr/>
            <p:nvPr/>
          </p:nvSpPr>
          <p:spPr>
            <a:xfrm>
              <a:off x="3030480" y="76212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Происхожд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70663"/>
            <p:cNvSpPr/>
            <p:nvPr/>
          </p:nvSpPr>
          <p:spPr>
            <a:xfrm>
              <a:off x="114300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70664"/>
            <p:cNvSpPr/>
            <p:nvPr/>
          </p:nvSpPr>
          <p:spPr>
            <a:xfrm>
              <a:off x="491724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57200" y="228600"/>
            <a:ext cx="8228520" cy="5865480"/>
            <a:chOff x="457200" y="228600"/>
            <a:chExt cx="8228520" cy="5865480"/>
          </a:xfrm>
        </p:grpSpPr>
        <p:cxnSp>
          <p:nvCxnSpPr>
            <p:cNvPr id="246" name="_s71697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092560" y="2053080"/>
              <a:ext cx="1173600" cy="221544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9" name="_s71696"/>
            <p:cNvCxnSpPr>
              <a:stCxn id="250" idx="0"/>
              <a:endCxn id="248" idx="2"/>
            </p:cNvCxnSpPr>
            <p:nvPr/>
          </p:nvCxnSpPr>
          <p:spPr>
            <a:xfrm flipH="1" flipV="1" rot="5400000">
              <a:off x="2876400" y="2053080"/>
              <a:ext cx="1173600" cy="221616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8" name="_s71692"/>
            <p:cNvSpPr/>
            <p:nvPr/>
          </p:nvSpPr>
          <p:spPr>
            <a:xfrm>
              <a:off x="2673000" y="22860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Степень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готовност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к эксплуатаци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71693"/>
            <p:cNvSpPr/>
            <p:nvPr/>
          </p:nvSpPr>
          <p:spPr>
            <a:xfrm>
              <a:off x="45720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Введённые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71694"/>
            <p:cNvSpPr/>
            <p:nvPr/>
          </p:nvSpPr>
          <p:spPr>
            <a:xfrm>
              <a:off x="488808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Незавершё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52" name="_s74769"/>
            <p:cNvCxnSpPr>
              <a:stCxn id="253" idx="1"/>
              <a:endCxn id="254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5" name="_s74767"/>
            <p:cNvCxnSpPr>
              <a:stCxn id="256" idx="1"/>
              <a:endCxn id="254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7" name="_s74764"/>
            <p:cNvCxnSpPr>
              <a:stCxn id="258" idx="1"/>
              <a:endCxn id="254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74763"/>
            <p:cNvCxnSpPr>
              <a:stCxn id="260" idx="1"/>
              <a:endCxn id="254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74762"/>
            <p:cNvCxnSpPr>
              <a:stCxn id="262" idx="1"/>
              <a:endCxn id="254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74758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орма собственн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74759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Ча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74760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Государстве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74761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ые совме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74766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о-дол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74768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бщественных организац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64" name="_s76818"/>
            <p:cNvCxnSpPr>
              <a:stCxn id="265" idx="1"/>
              <a:endCxn id="266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7" name="_s76816"/>
            <p:cNvCxnSpPr>
              <a:stCxn id="268" idx="1"/>
              <a:endCxn id="266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9" name="_s76813"/>
            <p:cNvCxnSpPr>
              <a:stCxn id="270" idx="1"/>
              <a:endCxn id="266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1" name="_s76812"/>
            <p:cNvCxnSpPr>
              <a:stCxn id="272" idx="1"/>
              <a:endCxn id="266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76811"/>
            <p:cNvCxnSpPr>
              <a:stCxn id="274" idx="1"/>
              <a:endCxn id="266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6" name="_s76807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Отраслевая принадлеж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76808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мышл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76809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троите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76810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ельскохозяй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76815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Жилищно-коммун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76817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Культурно-бытовые и др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685800" y="1531800"/>
            <a:ext cx="7999920" cy="4639680"/>
            <a:chOff x="685800" y="1531800"/>
            <a:chExt cx="7999920" cy="4639680"/>
          </a:xfrm>
        </p:grpSpPr>
        <p:cxnSp>
          <p:nvCxnSpPr>
            <p:cNvPr id="276" name="_s78860"/>
            <p:cNvCxnSpPr>
              <a:stCxn id="277" idx="1"/>
              <a:endCxn id="278" idx="2"/>
            </p:cNvCxnSpPr>
            <p:nvPr/>
          </p:nvCxnSpPr>
          <p:spPr>
            <a:xfrm rot="10800000">
              <a:off x="3084840" y="2374920"/>
              <a:ext cx="800640" cy="337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78859"/>
            <p:cNvCxnSpPr>
              <a:stCxn id="280" idx="1"/>
              <a:endCxn id="278" idx="2"/>
            </p:cNvCxnSpPr>
            <p:nvPr/>
          </p:nvCxnSpPr>
          <p:spPr>
            <a:xfrm rot="10800000">
              <a:off x="3084840" y="2374920"/>
              <a:ext cx="800640" cy="210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1" name="_s78858"/>
            <p:cNvCxnSpPr>
              <a:stCxn id="282" idx="1"/>
              <a:endCxn id="278" idx="2"/>
            </p:cNvCxnSpPr>
            <p:nvPr/>
          </p:nvCxnSpPr>
          <p:spPr>
            <a:xfrm rot="10800000">
              <a:off x="3084840" y="2374920"/>
              <a:ext cx="800640" cy="84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78854"/>
            <p:cNvSpPr/>
            <p:nvPr/>
          </p:nvSpPr>
          <p:spPr>
            <a:xfrm>
              <a:off x="685800" y="15318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зможность приватиз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8855"/>
            <p:cNvSpPr/>
            <p:nvPr/>
          </p:nvSpPr>
          <p:spPr>
            <a:xfrm>
              <a:off x="3885840" y="27972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Запрещён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78856"/>
            <p:cNvSpPr/>
            <p:nvPr/>
          </p:nvSpPr>
          <p:spPr>
            <a:xfrm>
              <a:off x="3885840" y="40626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По решению Правитель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78857"/>
            <p:cNvSpPr/>
            <p:nvPr/>
          </p:nvSpPr>
          <p:spPr>
            <a:xfrm>
              <a:off x="3885840" y="53280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Свободно приватизируем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мер общей классификации зданий фасетным методом по одному признак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2209680"/>
            <a:ext cx="228600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038480"/>
            <a:ext cx="22096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59092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коммер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038480"/>
            <a:ext cx="24382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обществен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2895480"/>
            <a:ext cx="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5" idx="0"/>
            <a:endCxn id="287" idx="0"/>
          </p:cNvCxnSpPr>
          <p:nvPr/>
        </p:nvCxnSpPr>
        <p:spPr>
          <a:xfrm flipH="1" rot="16200000">
            <a:off x="4323240" y="1123560"/>
            <a:ext cx="2520" cy="5829840"/>
          </a:xfrm>
          <a:prstGeom prst="bentConnector3">
            <a:avLst>
              <a:gd name="adj1" fmla="val -1440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sp>
        <p:nvSpPr>
          <p:cNvPr id="290" name=""/>
          <p:cNvSpPr/>
          <p:nvPr/>
        </p:nvSpPr>
        <p:spPr>
          <a:xfrm>
            <a:off x="2652840" y="3241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е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9400" y="32418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знаки классификации недвижимости по уровням управл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85800" y="1981080"/>
          <a:ext cx="7772400" cy="4232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однохозяй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к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собств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оизводимость в натуральной фор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аслевая принадле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иториальное разме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ление свойств (удобств) предм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дох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готовности к эксплуа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666880"/>
            <a:ext cx="1600200" cy="152424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441520"/>
            <a:ext cx="1447920" cy="205740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8320" y="270828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ла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00280" y="3470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с-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2239920"/>
            <a:ext cx="17528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ранич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ита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ём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239920"/>
            <a:ext cx="114300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9280" y="2239920"/>
            <a:ext cx="15224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4788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31654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365760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93432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9720" y="25700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3640" y="3733920"/>
            <a:ext cx="119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316548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36576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845820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1800" y="25970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10280" y="3699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591000" y="2441160"/>
            <a:ext cx="447480" cy="266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733920" y="3027240"/>
            <a:ext cx="304560" cy="138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733920" y="3276720"/>
            <a:ext cx="3045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373392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27082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1654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36576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156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1905120"/>
          <a:ext cx="8569080" cy="4038480"/>
        </p:xfrm>
        <a:graphic>
          <a:graphicData uri="http://schemas.openxmlformats.org/drawingml/2006/table">
            <a:tbl>
              <a:tblPr/>
              <a:tblGrid>
                <a:gridCol w="2143080"/>
                <a:gridCol w="1962000"/>
                <a:gridCol w="2160720"/>
                <a:gridCol w="2303280"/>
              </a:tblGrid>
              <a:tr h="807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 - недвиж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вест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талоем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нятия и признаки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пецифические свойства земл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 функционирования в сфере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пень подви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ительность хозяйственного кругообо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сервиту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требительск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ние потребительской формы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нос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стоимости в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заменя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ротоспособность на ры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ый способ распоряжения землё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щие потребности, удовлетворяемые землёй как това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23000" y="2084400"/>
            <a:ext cx="4316400" cy="4289760"/>
            <a:chOff x="2223000" y="2084400"/>
            <a:chExt cx="4316400" cy="4289760"/>
          </a:xfrm>
        </p:grpSpPr>
        <p:sp>
          <p:nvSpPr>
            <p:cNvPr id="335" name="_s96262"/>
            <p:cNvSpPr/>
            <p:nvPr/>
          </p:nvSpPr>
          <p:spPr>
            <a:xfrm flipV="1">
              <a:off x="3950280" y="2084040"/>
              <a:ext cx="862200" cy="857880"/>
            </a:xfrm>
            <a:custGeom>
              <a:avLst/>
              <a:gdLst>
                <a:gd name="textAreaLeft" fmla="*/ 309240 w 862200"/>
                <a:gd name="textAreaRight" fmla="*/ 552960 w 862200"/>
                <a:gd name="textAreaTop" fmla="*/ 307800 h 857880"/>
                <a:gd name="textAreaBottom" fmla="*/ 5500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. Баз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96266"/>
            <p:cNvSpPr/>
            <p:nvPr/>
          </p:nvSpPr>
          <p:spPr>
            <a:xfrm flipV="1">
              <a:off x="3519000" y="2941920"/>
              <a:ext cx="1724760" cy="857880"/>
            </a:xfrm>
            <a:custGeom>
              <a:avLst/>
              <a:gdLst>
                <a:gd name="textAreaLeft" fmla="*/ 379080 w 1724760"/>
                <a:gd name="textAreaRight" fmla="*/ 1345680 w 1724760"/>
                <a:gd name="textAreaTop" fmla="*/ 188640 h 857880"/>
                <a:gd name="textAreaBottom" fmla="*/ 66924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. Безопас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_s96267"/>
            <p:cNvSpPr/>
            <p:nvPr/>
          </p:nvSpPr>
          <p:spPr>
            <a:xfrm flipV="1">
              <a:off x="3085560" y="3800160"/>
              <a:ext cx="2591280" cy="857880"/>
            </a:xfrm>
            <a:custGeom>
              <a:avLst/>
              <a:gdLst>
                <a:gd name="textAreaLeft" fmla="*/ 449640 w 2591280"/>
                <a:gd name="textAreaRight" fmla="*/ 2141640 w 2591280"/>
                <a:gd name="textAreaTop" fmla="*/ 148680 h 857880"/>
                <a:gd name="textAreaBottom" fmla="*/ 7092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. Соц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96263"/>
            <p:cNvSpPr/>
            <p:nvPr/>
          </p:nvSpPr>
          <p:spPr>
            <a:xfrm flipV="1">
              <a:off x="2654280" y="4658040"/>
              <a:ext cx="3453840" cy="857880"/>
            </a:xfrm>
            <a:custGeom>
              <a:avLst/>
              <a:gdLst>
                <a:gd name="textAreaLeft" fmla="*/ 519480 w 3453840"/>
                <a:gd name="textAreaRight" fmla="*/ 2934360 w 3453840"/>
                <a:gd name="textAreaTop" fmla="*/ 128880 h 857880"/>
                <a:gd name="textAreaBottom" fmla="*/ 7290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сихолог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96264"/>
            <p:cNvSpPr/>
            <p:nvPr/>
          </p:nvSpPr>
          <p:spPr>
            <a:xfrm flipV="1">
              <a:off x="2223000" y="5515920"/>
              <a:ext cx="4316400" cy="857880"/>
            </a:xfrm>
            <a:custGeom>
              <a:avLst/>
              <a:gdLst>
                <a:gd name="textAreaLeft" fmla="*/ 589320 w 4316400"/>
                <a:gd name="textAreaRight" fmla="*/ 3727080 w 4316400"/>
                <a:gd name="textAreaTop" fmla="*/ 117000 h 857880"/>
                <a:gd name="textAreaBottom" fmla="*/ 7408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Интеллекту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ивая спроса и предложения земли на рынке в краткосрочный период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76520" y="2437920"/>
            <a:ext cx="0" cy="312444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5562720"/>
            <a:ext cx="586728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-1179720" y="3694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 земли, Ц, Р/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74080" y="6137280"/>
            <a:ext cx="23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щадь, 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2743200"/>
            <a:ext cx="0" cy="2819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2776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588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10364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412128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412128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2776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342900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7760" y="3657600"/>
            <a:ext cx="1996920" cy="13716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2743200"/>
            <a:ext cx="2209680" cy="16002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73680" y="568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86480" y="38926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4320" y="32004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63360" y="57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30840" y="366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22040" y="434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72400" y="4571640"/>
            <a:ext cx="447840" cy="235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3768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27000" y="3435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543800" y="3663720"/>
            <a:ext cx="3808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2852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едвижимое имущество как товар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2157120"/>
            <a:ext cx="8101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ъект сделок (купли, продажи, дарения, залога и др.), удовлетворяющий различные реальные или потенциальные потребности и имеющий определенные качественные и количественные характерис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способность удовлетворять потребности владельца именно в данном месте и в течение соответствующего период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кономические особенности недвижимост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иболее долговечный и основательный това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надежность инвести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ляются по месту их расположения (территориальные предпочте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авномерность денежных потоков при их приобретении и использов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налогообло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образие вещных пра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ая регламентация оформления сдел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квид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ходимость грамотного менеджм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нозируемые денежные потоки по инвестиционным циклам проек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1280" y="25495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ож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 пот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160" y="3497400"/>
            <a:ext cx="22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оки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окуп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ите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гово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плуата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164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ру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да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3371760"/>
            <a:ext cx="576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32000" y="3371760"/>
            <a:ext cx="179640" cy="1497240"/>
          </a:xfrm>
          <a:prstGeom prst="downArrow">
            <a:avLst>
              <a:gd name="adj1" fmla="val 50000"/>
              <a:gd name="adj2" fmla="val 208367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51280" y="3371760"/>
            <a:ext cx="0" cy="596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51280" y="41497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128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5128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54760" y="3371760"/>
            <a:ext cx="0" cy="23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7200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72000" y="432864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830920" y="50436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10200" y="52228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472000" y="3968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59400" y="360792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472000" y="34290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5164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651640" y="414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51640" y="468900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516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65164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1898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89840" y="423864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189840" y="4686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19272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661080" y="42372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684840" y="462276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684840" y="387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61080" y="34974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6189840" y="2889360"/>
            <a:ext cx="288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61080" y="2549520"/>
            <a:ext cx="0" cy="822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189840" y="2549520"/>
            <a:ext cx="471240" cy="33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84840" y="2549520"/>
            <a:ext cx="1308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93080" y="2549520"/>
            <a:ext cx="179280" cy="822240"/>
          </a:xfrm>
          <a:prstGeom prst="upArrow">
            <a:avLst>
              <a:gd name="adj1" fmla="val 50000"/>
              <a:gd name="adj2" fmla="val 114659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2360" y="3787920"/>
            <a:ext cx="126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60920" y="34480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4164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609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459400" y="3186000"/>
            <a:ext cx="0" cy="185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651640" y="2889360"/>
            <a:ext cx="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17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2976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14240" y="632952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9000" y="63295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6329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53440" y="63295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(ЖЦ) объектов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это законченная последовательность  процессов существования недвижимости от ввода в эксплуатацию до прекра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ичают четыре вида цик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дел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зненный цикл това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вида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предприятия как имущественного комплек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недвижимости как физического объек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50920" y="1844640"/>
          <a:ext cx="8713800" cy="4530600"/>
        </p:xfrm>
        <a:graphic>
          <a:graphicData uri="http://schemas.openxmlformats.org/drawingml/2006/table">
            <a:tbl>
              <a:tblPr/>
              <a:tblGrid>
                <a:gridCol w="2179440"/>
                <a:gridCol w="2178000"/>
                <a:gridCol w="2176560"/>
                <a:gridCol w="2179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единвести-ционная ста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, формирование (строительств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вод в      эксплуатацию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Владение и исполь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Смена собственника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Капитальный ремо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Функциональное устаре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Физический изн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Ухудшение потребительских свой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Изменение функциональ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Конец экономического срока жизни   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042920" y="285264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042560" y="4221000"/>
            <a:ext cx="6697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6021360"/>
            <a:ext cx="561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28526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вида бизне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1916280"/>
          <a:ext cx="8362800" cy="4708440"/>
        </p:xfrm>
        <a:graphic>
          <a:graphicData uri="http://schemas.openxmlformats.org/drawingml/2006/table">
            <a:tbl>
              <a:tblPr/>
              <a:tblGrid>
                <a:gridCol w="2090880"/>
                <a:gridCol w="2092320"/>
                <a:gridCol w="2089080"/>
                <a:gridCol w="2090520"/>
              </a:tblGrid>
              <a:tr h="23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расширения, ро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зрел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кращение деловой акт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Лицензирование, госрегистр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Подготовительный этап создания нового предпри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дготовительный этап нового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на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619280" y="342900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88360" y="342900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618920" y="580536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бъекты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71600" y="1143000"/>
          <a:ext cx="6076800" cy="5153040"/>
        </p:xfrm>
        <a:graphic>
          <a:graphicData uri="http://schemas.openxmlformats.org/drawingml/2006/table">
            <a:tbl>
              <a:tblPr/>
              <a:tblGrid>
                <a:gridCol w="3154320"/>
                <a:gridCol w="2922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ь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Земельные учас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Участники нед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бособленные вод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с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летние насажд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руж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душные и морские суд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да внутреннего плав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мически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ные предметы, наделённые статусом недвижим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риятия  в целом как имущественный комплекс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е участк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 и сооруж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ь и оборудова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рьё и продук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и долг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на обознач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изирующие предприятие, его продукцию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исключительные пра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рок жизни и возраст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1600200"/>
          <a:ext cx="8229600" cy="5230800"/>
        </p:xfrm>
        <a:graphic>
          <a:graphicData uri="http://schemas.openxmlformats.org/drawingml/2006/table">
            <a:tbl>
              <a:tblPr/>
              <a:tblGrid>
                <a:gridCol w="2854440"/>
                <a:gridCol w="537516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прибыльного использова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реального существования объекта в функционально пригодном состояни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вшийся срок экономической жизн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аты оценки до окончания срока экономической жизни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ы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 на оценке внешнего вида и технического состоя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ически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ня ввода в эксплуатацию до даты оценк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зн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57200" y="1600200"/>
          <a:ext cx="8229600" cy="4168800"/>
        </p:xfrm>
        <a:graphic>
          <a:graphicData uri="http://schemas.openxmlformats.org/drawingml/2006/table">
            <a:tbl>
              <a:tblPr/>
              <a:tblGrid>
                <a:gridCol w="2135160"/>
                <a:gridCol w="1979640"/>
                <a:gridCol w="2057400"/>
                <a:gridCol w="2057400"/>
              </a:tblGrid>
              <a:tr h="74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еря технико-эксплуатационных свойств и потребительск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сценение объекта независимо от его физического состоя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онально интенсивности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 влиянием природных усл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ледствие удешевления воспроизводства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езультате создания новых, более экономичных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начисления амортиз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ейный мет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уменьшаемого остат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по сумме чисел лет срока полезного исполь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стоимости пропорционально объему произведенной проду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мулятивный метод (мировая практ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Износ в оценке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1414440"/>
                <a:gridCol w="1328760"/>
                <a:gridCol w="1371600"/>
                <a:gridCol w="1371600"/>
                <a:gridCol w="2743200"/>
              </a:tblGrid>
              <a:tr h="99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бытки, вызываемый внешними по отношению к границам объекта фактор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опленный износ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 flipH="1">
            <a:off x="4572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Недвижимость как физический, экономико-правовой и социальный комплекс отношений</a:t>
            </a:r>
            <a:br>
              <a:rPr sz="1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2180520"/>
            <a:ext cx="7847640" cy="3762720"/>
            <a:chOff x="685800" y="2180520"/>
            <a:chExt cx="7847640" cy="3762720"/>
          </a:xfrm>
        </p:grpSpPr>
        <p:cxnSp>
          <p:nvCxnSpPr>
            <p:cNvPr id="134" name="_s34821"/>
            <p:cNvCxnSpPr>
              <a:stCxn id="135" idx="2"/>
              <a:endCxn id="136" idx="3"/>
            </p:cNvCxnSpPr>
            <p:nvPr/>
          </p:nvCxnSpPr>
          <p:spPr>
            <a:xfrm rot="10800000">
              <a:off x="3013560" y="2718360"/>
              <a:ext cx="812880" cy="298512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7" name="_s34822"/>
            <p:cNvCxnSpPr>
              <a:stCxn id="138" idx="2"/>
              <a:endCxn id="136" idx="3"/>
            </p:cNvCxnSpPr>
            <p:nvPr/>
          </p:nvCxnSpPr>
          <p:spPr>
            <a:xfrm rot="10800000">
              <a:off x="3013560" y="2718360"/>
              <a:ext cx="812880" cy="217944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9" name="_s34823"/>
            <p:cNvCxnSpPr>
              <a:stCxn id="140" idx="2"/>
              <a:endCxn id="136" idx="3"/>
            </p:cNvCxnSpPr>
            <p:nvPr/>
          </p:nvCxnSpPr>
          <p:spPr>
            <a:xfrm rot="10800000">
              <a:off x="3013560" y="2718360"/>
              <a:ext cx="812880" cy="137340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1" name="_s34824"/>
            <p:cNvCxnSpPr>
              <a:stCxn id="142" idx="2"/>
              <a:endCxn id="136" idx="3"/>
            </p:cNvCxnSpPr>
            <p:nvPr/>
          </p:nvCxnSpPr>
          <p:spPr>
            <a:xfrm rot="10800000">
              <a:off x="3013560" y="2718360"/>
              <a:ext cx="812880" cy="56736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36" name="_s34825"/>
            <p:cNvSpPr/>
            <p:nvPr/>
          </p:nvSpPr>
          <p:spPr>
            <a:xfrm>
              <a:off x="685800" y="2180520"/>
              <a:ext cx="4711320" cy="538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99ff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Недвижимое имуществ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4826"/>
            <p:cNvSpPr/>
            <p:nvPr/>
          </p:nvSpPr>
          <p:spPr>
            <a:xfrm>
              <a:off x="3826800" y="298836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Физический объект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4827"/>
            <p:cNvSpPr/>
            <p:nvPr/>
          </p:nvSpPr>
          <p:spPr>
            <a:xfrm>
              <a:off x="3826800" y="379440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Объект экономический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4828"/>
            <p:cNvSpPr/>
            <p:nvPr/>
          </p:nvSpPr>
          <p:spPr>
            <a:xfrm>
              <a:off x="3826800" y="4600800"/>
              <a:ext cx="4706640" cy="536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Объект правовых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4829"/>
            <p:cNvSpPr/>
            <p:nvPr/>
          </p:nvSpPr>
          <p:spPr>
            <a:xfrm>
              <a:off x="3826800" y="540648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Объект общих социальных отношений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изический объек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щадь и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(высота, длина, ши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ндш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ешня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экономических отнош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итал в вещевой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ез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хо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держки содерж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ый ак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гооб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правовых отнош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о соб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щные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жизненного наследуемого вла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стоянного 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хозяйственного 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оперативного 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залога, аренды, застро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виту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на земельный участок собственника здания, расположенного на н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циальное право «золотая акция» на участие в  управлении пред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ые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жораев В.О.</cp:lastModifiedBy>
  <dcterms:modified xsi:type="dcterms:W3CDTF">2007-02-15T16:50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